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454-8EA9-4E2D-95DB-D4DB92D7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988-6122-4D7C-BCD9-F60E52C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749-2C21-46B4-97DA-B0D6C441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268-B148-428A-9E4B-590B933B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BBD-22D1-45C9-A69E-6B6BB26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993-5C6A-408D-A087-B79AC9A3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1ED-4C5B-4CBE-8C27-3B6C19C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1FD-BC07-4EF4-9158-C5899B03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1B8-1808-455B-AE3D-248EBD8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497-6C18-448E-96F1-ABBB70D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CC9-8AA7-4F9C-AE6F-5359084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FED-517F-4880-82C7-4C8D79A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1780-E3F9-470F-9176-F4CC33F49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80000" y="5734080"/>
            <a:ext cx="486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rancha Gutierrez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066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Walter Elias Disney  was born December 5, 1901 and died December 15, 1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 won many awards as a film producer, director, screenwriter and voice actor anim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 the co-founder (with his brother Roy O. Disney) of Walt Disney Productions, Disney became one of the best-known motion picture producers in the wor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404640"/>
            <a:ext cx="76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iography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907000">
            <a:off x="1979640" y="5805000"/>
            <a:ext cx="2448000" cy="8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235320" cy="414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867280" y="6021360"/>
            <a:ext cx="2475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alter Elias Disney*</a:t>
            </a:r>
            <a:endParaRPr b="1" lang="en-US" sz="1800" spc="1" strike="noStrike">
              <a:ln w="28440">
                <a:solidFill>
                  <a:srgbClr val="3366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key mouse is his most famous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t is a mouse that goes through lots of funny adven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 is normally with Minnie Mouse, a pretty female m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35280" y="476280"/>
            <a:ext cx="525780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ickey Mouse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493800">
            <a:off x="5940360" y="1268280"/>
            <a:ext cx="2772000" cy="27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20671200">
            <a:off x="4211280" y="3357720"/>
            <a:ext cx="2552760" cy="2552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109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ney soon began plans for a film feature in 193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he first film of the factory was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Snow White and the Seven Dwarf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ther famous film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Pinoc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Fantasia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B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His cartoon series include: 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Mickey Mouse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Donald Duck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Goofy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Pluto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476280"/>
            <a:ext cx="568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sney  Films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20947200">
            <a:off x="6804000" y="27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 rot="20937600">
            <a:off x="4858920" y="3860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696000">
            <a:off x="6588000" y="4941360"/>
            <a:ext cx="206712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00360" y="1773360"/>
            <a:ext cx="361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uring 1949, Disney and his family moved to Los Ang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e wanted to build an amusement park here his employees spent time with their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he construction of Disneyland began in 195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he park opened its doors to the public on July 18, 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8000" y="260280"/>
            <a:ext cx="44672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sneyland*</a:t>
            </a:r>
            <a:endParaRPr b="1" lang="en-US" sz="1800" spc="1" strike="noStrike">
              <a:ln w="255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62872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232000" cy="171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737080" cy="178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79280" y="4437000"/>
            <a:ext cx="2448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556000" y="47628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The End*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31:39Z</dcterms:created>
  <dc:creator>Alumno57</dc:creator>
  <dc:description/>
  <dc:language>en-US</dc:language>
  <cp:lastModifiedBy>Alumno57</cp:lastModifiedBy>
  <dcterms:modified xsi:type="dcterms:W3CDTF">2008-06-10T11:11:21Z</dcterms:modified>
  <cp:revision>5</cp:revision>
  <dc:subject/>
  <dc:title>Diapositiva 1</dc:title>
</cp:coreProperties>
</file>